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D9D-E6AC-498D-BA12-A6D1C1EA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2A7-035E-4478-B314-8EE1326B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A89-8E77-4D4D-B357-D35DF04C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5D5-0FDD-4232-BF97-86EC6293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B188-209A-417D-99E4-682BA2D5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FBF9-D69D-435B-A60E-0FF65262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C004-2017-466A-B11E-8A81E9FE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DB6F-FC50-4F4E-9048-02325E45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B0A4-1E01-4BE6-B24C-710A55F0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2FF6-9646-45E3-B63A-2C5BA994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FE1C-57A1-4341-A92E-63E5A4CC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7DA-2556-4B85-BCD0-EE82A5DC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6883-6DB5-4C9A-B745-1F75C76B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DF94-F896-4083-8FA5-84E0AC7C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9FD8-3C2A-458F-96F6-D24E73D6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DD6C-E9A1-479C-BCC5-6A0CE21D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DA5A-C4C0-4964-AE81-592B8064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78E-6A25-4854-9C35-A9DABE21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823-D202-49CF-8AC4-7C76381D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4D4-D38D-4CF0-A76E-31246D65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5B47-D300-4E87-8611-23342893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1AF-E1BD-47E1-BAE6-C7D3984A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ED9-4F8F-45D1-8CB2-0E991F5C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265-63BE-4DE7-BF22-89AD3B0E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2173-39F3-499C-8378-EE1A73DD7A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C911-2BC3-45D7-8918-F2043F612A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оненттері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96-97 б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8064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7440" y="0"/>
            <a:ext cx="50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4400" spc="-1" strike="noStrike">
                <a:solidFill>
                  <a:srgbClr val="660066"/>
                </a:solidFill>
                <a:latin typeface="Comic Sans MS"/>
              </a:rPr>
              <a:t>Негізгі қасиетте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907920"/>
            <a:ext cx="0" cy="595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76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4800" y="6922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484280"/>
            <a:ext cx="180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232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84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ске қосылуын орн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2392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 өзгерту   (0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600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ет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6840720" cy="317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3589200"/>
            <a:ext cx="38163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43640" cy="40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99096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365720"/>
            <a:ext cx="482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уыстырғыштың іске қосылу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ауыстырғыштың ажыратылу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5000" cy="352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118040" cy="652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407664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алауша орнатылма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жалауша орнатыл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– белгісіз к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16360" cy="3467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082760" cy="532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4221000"/>
            <a:ext cx="34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 – кәдімгі тү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батырма секілді өзге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6870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ішінде(формада) орнатылған ауыстырғыштар мен жалаушалар арқылы мәтіннің (текстің) жазылу үлгілерін орнататын қосымша жаса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5596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63520"/>
            <a:ext cx="4680000" cy="560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   Times New Roman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ыз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Жас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Кө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341360"/>
            <a:ext cx="3816360" cy="289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c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л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Check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ур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xtB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а Әә Бб Вв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11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003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5011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41708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1125360"/>
            <a:ext cx="6400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53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3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4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95640" y="0"/>
            <a:ext cx="55450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Text1_GotFoc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1.Value = Checked Then Text1.FontBold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Bold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2.Value = Checked Then Text1.FontItalic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Italic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Үйге тапсыр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6-97 бет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83272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756720" y="1197000"/>
            <a:ext cx="64620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197000"/>
            <a:ext cx="93636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5080" y="40464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320" y="333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2852280"/>
            <a:ext cx="21592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73360"/>
            <a:ext cx="237636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Ауыстырып қосқ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528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26920" y="429264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әліметтер топтамасы ішінен тек бір вариантын ғана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9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852640"/>
            <a:ext cx="1224000" cy="1081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 Жалауш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144144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482436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4365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птамалар ішінен бір немесе бірнеше вариант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4:46Z</dcterms:created>
  <dc:creator>Камила</dc:creator>
  <dc:description/>
  <dc:language>en-US</dc:language>
  <cp:lastModifiedBy>Камила</cp:lastModifiedBy>
  <dcterms:modified xsi:type="dcterms:W3CDTF">2010-12-31T17:26:29Z</dcterms:modified>
  <cp:revision>30</cp:revision>
  <dc:subject/>
  <dc:title>OptionButton Ауыстырып ќосќыш,  CheckBox Жалауша </dc:title>
</cp:coreProperties>
</file>